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15B4E-5888-46B9-9615-136657CC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CE72-1790-433C-ABD3-F8033DA3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46A9-3254-408C-8857-5666E1C3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201B3-4B6B-47C1-B75C-8D78C538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7D29-EF18-4A03-80C9-324B7C7B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CFD3-5FBA-4715-B454-38836917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BDB7-E910-4AF1-8C41-C2055F4B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BF15-2314-46AB-BC57-76E97352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CDA8-0D42-4E10-9686-45C4E45B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4753-E2AA-49DA-977B-195CCFD0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4759-48D5-46AF-A650-E4A0AE14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4528-1CCD-40AD-B655-AF8FBCC3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24D9-6BC0-4E54-A06F-791AA9AD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301F-D8E7-4661-98BA-91E5C838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6D9C-DD14-47EF-8DF6-06AF52F8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AC26-1052-4490-86D8-12F52133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0EC5-4D2E-4841-B167-EAC1E676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D29B-78B4-4A56-90E9-F0D76625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B40C-F353-4D1E-AA07-CD56A62F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C7D6-EC55-4F3E-9C5A-66E7FD0F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3AEA-4F41-4D65-B880-0A0B694A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0DBA-542F-4DDC-8D97-67C3693A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D4B4C-CF89-4F9B-A65C-6B2F7EB4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8AE1-93BB-414D-8A38-56B5D5A0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2E53-AF0E-49F5-854A-04D564BDAA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F254-E342-4AC7-AE46-38BE55E473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Official_portrait_of_Barack_Obama.jpg" TargetMode="External"/><Relationship Id="rId2" Type="http://schemas.openxmlformats.org/officeDocument/2006/relationships/hyperlink" Target="http://en.wikipedia.org/wiki/File:Einstein_1921_portrait2.jpg" TargetMode="External"/><Relationship Id="rId3" Type="http://schemas.openxmlformats.org/officeDocument/2006/relationships/hyperlink" Target="http://en.wikipedia.org/wiki/Abraham_Lincoln" TargetMode="External"/><Relationship Id="rId4" Type="http://schemas.openxmlformats.org/officeDocument/2006/relationships/hyperlink" Target="http://en.wikipedia.org/wiki/Oprah_Winfrey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 good leader looks lik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p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others to want to do more o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853000" cy="3883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86200" y="28195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ama is inspiring to us because him and his wife have help fight obesity. They have really encouraged people to get in shape and stay healt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ing the feelings and needs of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2803680" cy="3581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14800" y="32767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rah always listens to peoples issues and tries to relate to them. She tries to help people by telling them the right thing to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knowledge and understanding you need to perform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2959200" cy="369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14800" y="33526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ert Einstein was a very intelligent man, he showed E=mc^2 for math. He represents intelligence for many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ethical in your decisions and treatments of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277344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733920" y="342900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  Lincoln was often called Honest Abe. He chased down a lady one time be cause he gave her the wrong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ack Obama, 26 January 2012 at 06:45, January 26, 2012,</a:t>
            </a:r>
            <a:br>
              <a:rPr sz="2000"/>
            </a:b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en.wikipedia.org/wiki/File:Official_portrait_of_Barack_Obama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bert Einstein 17 January 2012 at 18:43, January 26, 2012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en.wikipedia.org/wiki/File:Einstein_1921_portrait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aham Lincoln, 25 January 2012 at 21:22, January  26, 2012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en.wikipedia.org/wiki/Abraham_Linco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rah Winfrey, 24 January 2012 at 04:37, January 26, 20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en.wikipedia.org/wiki/Oprah_Winfr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2:47:43Z</dcterms:created>
  <dc:creator>Courtney Marr</dc:creator>
  <dc:description/>
  <dc:language>en-US</dc:language>
  <cp:lastModifiedBy>Courtney Marr</cp:lastModifiedBy>
  <dcterms:modified xsi:type="dcterms:W3CDTF">2012-01-26T13:29:40Z</dcterms:modified>
  <cp:revision>2</cp:revision>
  <dc:subject/>
  <dc:title>What a good leader looks like!</dc:title>
</cp:coreProperties>
</file>